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A8E-3589-4689-B7F7-E7BBAC8F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C0A-8571-45B2-9FE9-C25CC61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DB5-1C3F-4779-B57C-B200CB7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D36-8F20-40B4-AF2C-83E0BAD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B93-B84E-480E-9655-C5C1D73E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E69-1385-4B1C-9600-AD652873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95C-06D4-41C3-BB49-7818187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32A-E075-4F27-99D3-352CA264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5EE-21AA-48AF-9446-E2206EF7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23C-66E2-4F3E-9681-C6DB5CF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512-684D-4903-862A-1E153EB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4FD-B74C-4ADF-927E-EC96F5F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D147-F98F-447D-B449-C14F201C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looks like slide 2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ut it’s really slide 3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8:03:59Z</dcterms:created>
  <dc:creator>John Wilson</dc:creator>
  <dc:description/>
  <dc:language>en-US</dc:language>
  <cp:lastModifiedBy>John Wilson</cp:lastModifiedBy>
  <dcterms:modified xsi:type="dcterms:W3CDTF">2007-03-23T08:11:44Z</dcterms:modified>
  <cp:revision>4</cp:revision>
  <dc:subject/>
  <dc:title>The Title</dc:title>
</cp:coreProperties>
</file>